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AA2-C6FD-4797-8C20-B61DA69E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84E-BDC1-4CE0-B711-3CA97003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646E3-5460-4509-A913-01F5480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4124B-F4F1-4AD9-8A81-E785E9B7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94757-EC1F-43B3-827F-5E0BCE00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B2827-740E-4077-A1E6-6AF53462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8318D-DB46-427E-AC2E-04108D8E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1C2ED-8D08-4B62-9B5C-D14DA3C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52E1E-0296-44A6-A4DC-6DBDA46C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03459-FC3C-4364-90A7-47819D6A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C6C0B-6DD9-4DBC-B42B-5A153D7A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41889-2490-490F-A1E9-D8334AB2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7FE-C17C-4DFF-A207-C1FFF802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1FF44-D60F-4394-BF0D-73AD9030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EED99-134E-428C-87AF-BF2F5B3A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249FE-395A-4AC7-A88A-EDF5083C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11FFF-0A0F-4EAF-9553-883322C7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97029-3855-4BA9-AE1D-78075EB0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53318-7714-4594-BDEC-81608F4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3932F-25E6-4F9F-B441-5DECD49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5CFFD-19DC-4D63-8CC9-D634D45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35025-70F8-4AFF-AE50-84492345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89082-56FC-4411-94CB-3147785B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B90-EBE8-4318-97F3-3C5C3562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33ABA-A99B-45E5-A51B-7EF7A97D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59DF5-EEE0-4B4D-98C0-3B65B263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B6C0D-1FAC-4140-9840-D0BE54E8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14B47-2B38-46F0-B211-34017665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9258A-FADB-455D-89D8-F865B374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02EE7-ACE8-4FC0-BFEF-580AF042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F5B76-DCC1-4295-91D9-37FA488F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DBAEB-0532-477C-8313-177A4C8A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82712-13AC-49E5-A22D-39F6F9D0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E2720-DA2A-4DA1-A230-3B260D96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0D56-F519-4B34-8469-73C6BB75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37329-9F72-44C1-9C9F-3A89ED2B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DE0B8-A3F6-4AAF-B68D-FE671E1D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0AF8C-0540-4DBF-96BF-256AFCAC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A88BC-EB5F-46F8-87B2-BFDA09AD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9DD9C-A9A0-4233-A9F0-813AE725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52766-F4B3-4490-9A50-ED7F6761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FF747-D45D-45D9-9B29-CE2DAF9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FBC31-2546-4A3C-9184-F982CDE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78342-81A2-4B83-A346-4FFD7605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EA968-9E3D-480D-921A-A1C3E6FC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71EA-F38E-4EA5-92C9-EF262F8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BA8B2-EC5F-49F5-A1C1-5636F94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57716-E443-445A-ACF2-51AFA2BF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9461C-566D-4441-B580-33ABAC42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00091-0DBC-4189-B601-9D2394C7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F2A9D-7CAE-43D6-9060-B160CE2A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7D7C5-8961-44AB-8697-4EC09802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8E4FC-9EC7-4B5D-8096-A467930F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FBEF4-C725-47D2-82FE-F99F5967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AA4C0-450F-48FC-9F6F-0623AEBB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2B33E-584A-41DD-9D6F-FAB3E556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B1D5-DC3E-42CC-AD99-6DDE9E49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D1C20-FEE6-487C-BBED-4D51C4AB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05C1C-1163-4511-9B2F-257E74D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58C86-3FC4-4F94-B79D-FD682824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23D31-9BBA-4873-8170-209BA6E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F1C77-1998-482C-BB5B-2641074D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06D9B-EED7-42CA-8CA6-72AB40B5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906C5-FD98-4B77-9F81-59F2EAAA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32D15-2922-47BC-A596-712DAA38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A6D89-C6BB-4466-A181-F11F10D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8EACF-9CA5-4897-9DB0-D4AD587A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C396-ECBF-4343-B551-33A56E92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845AE-B226-4D23-81CB-38C7A1E7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AE940-BDC4-438C-9B31-94237EDE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9EA40-C1CF-49F4-B88D-8483E4E7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D8524-433F-4576-B361-B8328A6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2DDCA-A37F-4AF7-BE40-1AE0E5E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EF8A6-CDBA-4C5B-A536-B7B03CB9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E7F40-165E-428D-80CA-514763DE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A40A5-22A6-4FC2-8A48-147C3138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01A11-0D6A-4F77-A262-B7B0E4C1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07899-0732-4670-A3F9-0541AF37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B311-C9A2-4875-A09D-2A46CC25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E1E04-D155-4DA5-BC3B-A3994A5C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59233-F2EC-423F-A0C0-D3DDC881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A3178-F439-41C1-9A00-C3667B1F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BA28A-3C71-460E-AA49-B6FC91A7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B33D9-F6F0-4695-ACDB-4BC7C851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5222C-FE67-43F9-81BE-D9305D9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9E5E5-9A28-417F-8FD6-7A282A5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BEA96-4ADB-4CC5-B0B7-1902C992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95770-42FE-46F1-955D-4FA1B04F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BAA78-0D79-496A-8142-228F4320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74A7-FE36-45AB-B19A-087AADD7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4AE53-0492-49BE-B172-6C6EEF99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4B994-B9D1-4469-B0C0-73DCDE77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C07FF-E1AF-4072-A3D1-5E3F348E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F75A0-8D4F-4BFB-9587-9F2022C3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02AF0-890D-4561-A826-5809A003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6F063-B3FB-41EA-9447-FA73CF1B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85A08-C042-4102-8133-3B9F6D1A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6B384-03C4-4D08-8989-D33E4182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36A4A-AA96-4397-820E-17B1FF86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BFA6D-58C0-4E4D-BA76-F0C5058C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E17-24FF-448D-B4B6-BC30AB63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13705-00CC-425A-B040-83B6DD1F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48C6C-4B93-45A2-921A-35F62D36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89AA9-834F-4DE6-A520-B1D7350B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5E013-CFDF-48E5-8F5B-7519D555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8DE7E-C542-4808-8118-2D8B77D2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F9F73-48AB-4A85-8111-80109CC0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E8BC4-43FC-4CEE-92A8-D68210D9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72987-2C49-42E4-80C3-5AA33A66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9ABF6-804F-4823-B54C-E5DBAC10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DC7DC-D7E6-4F5C-8610-5C38BC37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00A-0F10-4FCE-8CE7-E2684354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6778-540B-49D6-9536-7F2928F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191FE-9DB4-428A-83C9-523CD64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A1D05-29B5-4749-92E9-503C95C5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61F25-0414-4C08-8A02-CF6CA136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37C02-1E37-415B-938E-05E0A89E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33FE6-344A-4F35-802E-E4DDB621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65B3B-6C86-4A03-B763-6838BFF8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83F1C8-1441-4C80-873F-94DB1077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44B69-27E5-499F-8E09-FFF575F9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B3826-A496-4FCC-8E31-459DCC6A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B237E-5647-471C-940E-3EA4C375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128E-7835-4958-8068-08FFD070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F2A18-1A8D-4D8A-B63C-43FB7A39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70C9EA-6AE3-4161-8907-2EC29A61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3FC2E-B6A6-448A-97A8-92F60044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CDCA4-67D1-4066-8B2C-9F51B6D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5D872-667A-4F3E-84B6-B65D5442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8E3D8-74C7-4843-8035-7CD21A51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0CFF5-3DFB-4112-9029-E1056529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93226-30E8-44C3-BBA1-72364898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3CD566-DB3A-4651-AE6B-82AD752A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42819B-0C36-42A4-9F88-8926ABAF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1B0E-1151-470B-A092-67172FB8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ABC10-BA4E-4800-94BC-103F3892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A11E1-44A6-49DB-A36D-0529149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31C67A-2A6D-4EFF-8E98-E1ADD928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53089-6306-4980-82F6-657F969F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896E8-B080-40A3-8DB7-5DEDDBE3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66002F-93F4-4B67-8B16-41F704C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3E56D-EDC6-41B5-9B73-FB3A7304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44D10-E618-4CD4-9B78-D1BEE07C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3E3B6-630B-483A-A010-5AF93E4B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84111-3309-4ECE-A7C5-F5C3BE47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C106-20B1-4999-B208-50AE2839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A64CB-66FD-4A5D-B736-9A99C3BA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F32FF-7E55-45CB-8B40-18142B59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E00AE0-2CA8-43E5-8FC8-F300E5F8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F58DB-8180-41F0-9811-7F5979F9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7EC17-D3A2-42DE-9D94-19FFECF5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3A1DF-4FA7-4325-BDAD-AEED9888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BAC324-6B8B-461F-B37E-573338C0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FCCAFA-7752-45B9-B466-DB11282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F53F5-EE49-4067-8F57-82113FEE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354864-17E6-40A6-8375-7B750805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BC1B-7F5C-4410-A2C0-1F3421F2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9C3F9-E94B-4BCF-8220-DBBAECBA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E0AA6-86CD-4B3F-B31B-B82BEA9B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9B4F6-3401-4675-A9F8-3EA0A696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E1503-2895-49EE-B31E-978CF507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BDF5D-9604-40C9-8CD8-53897717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01447-8BF6-4323-AA3D-C70C08A9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2F0C7-B185-466E-913A-A0957BD4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5A4628-89F0-48B7-BDAB-D954B0A8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D684F-02B5-42DC-98C0-4A469FD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5B5CB2-1FF0-4D04-9BA6-9D5F16F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A776-885D-46DA-AE51-D9A28727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CA8AB7-E78A-4EB5-88B9-B5D5BFAE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F0F118-82CE-483F-814C-E986E77C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53EC7-E1E9-4032-9F20-3A9560DA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4C8B-71EB-44A3-8346-3E4CA909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44F5-0358-481A-A577-3030EDC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094E-BC64-4992-968D-0757B583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A9AE-5BA3-4CA7-AA5C-49396C5E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F49-6ADF-4FB3-B48B-9BDB2132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0DB1-9B20-4961-8098-9D9E131D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3BC8-51B0-41CC-AB9F-7D82869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9F4A-A0B2-4D82-A898-8750460A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0000-4B44-4D5C-ABA3-1313DDE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C0EA-A493-4EE5-A152-1476532C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836A1-45A7-45F0-AFF3-161810EA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5980-46E0-4A7E-ABC4-6728893F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09A4-E7D6-4272-904A-502EBFC6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9C2B-2654-4573-817D-BDE9FA0D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AEB82-3C93-480F-A661-ADD2604D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EAB-33AB-4BEE-9723-3DF73F2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9F5E-8DAE-432B-8DE9-8723B03B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1342-20D2-4659-BE7F-8FB7D60A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9FEC-E547-48DD-9FE7-8F0E27E4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0D49-1E3E-4640-B1FD-F958A960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EDC99-6119-46DA-8DF3-6943893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6D44-4129-41A9-B559-463F0C5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E1D71-946C-4232-9784-48495B3B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4953D-0CFE-49E3-9BB8-67A1191D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CC899-9059-4499-86FD-E3172687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9EB8F-0B35-447E-B860-DA27FBF2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593-AD75-4611-A9E3-6FC51B99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46ADC-847A-4B63-AE55-62AF30CA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EED11-9F01-4D6C-B937-CBBC6FEE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7BF6-BB87-440A-9678-336A4EA7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135F-F4C8-45EB-8B49-B63B15F9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C042-A9B9-4CE0-B683-2E1629D2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98BA-0FDA-4704-8C63-C4BF024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1A2D-D23E-4757-8914-857A9F38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4032-4EEB-4E44-8163-6E3D50E6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07D86-990D-4B70-A7CC-F57CE461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F782F-52FF-4C67-9E28-5093DC34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E05-2425-447B-9143-E696B5D2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27DE-31C7-450A-A419-1EF00E8E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2A42B-CD26-4AF0-81C7-784CC00C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4D51-7E03-4EB6-BD9A-0F0A25D2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6ACA-30C0-45C7-82C9-CC361FA6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1393E-DE60-4D2E-A2DA-A5A3B49D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037AA-F82B-4912-9033-1437E0EC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A2E20-F2AB-40BD-87AB-EA347C0C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B05A5-3065-46A5-95F0-120803E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7BEC3-0A37-4BC4-9525-FE5917E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0FEE-10AD-4F5A-A070-6D6641F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A08-7BD4-4969-BA15-89EC8AA5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BFC6-3361-4195-8CFA-D6CBF08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F6DFE-360B-49E4-878F-4318330F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703F1-E711-439E-A223-978687E6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EE118-C458-4C92-9A18-0D79B45D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7A6CF-6D60-4E5E-AF8A-E97DF82C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A7E0F-1FD2-4F8D-B2EA-44C78CB0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978AF-D6E2-4C13-994E-433D8ECC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ACF73-1918-45AA-9D4C-D5C12083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6290-64B3-4CCB-952C-778BFD5C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B9712-CDCA-4753-B119-47D46672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3B3-AE4E-4AAE-83FD-AB1C0E0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AAF7-FEF8-4955-AAF2-C2712913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4749D-E78A-4CA0-AE59-BDC8854C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DC26-0329-4E16-8E40-FA676CDC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F2D2C-32F3-427E-95C5-310048F4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B0011-8943-4620-A117-93855619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17AD7-7986-4645-8803-49C395DD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EC930-0011-4762-B077-F4D27A7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3A61A-263F-4455-92B4-3ED8A91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DE296-9E06-4177-AC3A-5082E8E0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02CFA-831B-4279-AA01-C1B4C2A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017-C08D-49D0-8517-8380E59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DD8A2-5233-4059-AB79-711A554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624F7-B6AD-422E-98D5-289D5162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2E208-6E86-49EF-95BD-19CFF83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164BC-BB53-4B19-99E3-E13D02B8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A5E32-2DA5-4517-A0C2-DE469A00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2BA81-3C24-4467-B99C-068BAD90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9C6A3-2E6A-4333-942B-BC60CE93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C6CDF-1413-4046-AA2C-F490F720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D8AD8-5FA5-419B-8D7D-E94611DA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77AAE-A5C8-46FC-BAE4-FF01929B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4544-B1BD-4321-ABB7-631F1DFF35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F7A-17B5-4848-BAE0-F11818396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60F6-0285-4906-8817-A242FFCC0D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3904-42ED-4BF6-B5E9-47D430788E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40C5-DFC6-4086-8E13-00E5BA7C0C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6FE5-E439-4514-868B-EA0786D55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C48B-EAA3-47EE-A7D7-BC892E9B7F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3248-5979-444D-97A8-3644AD3EAE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08C2-2E66-4021-BE89-6DD3BDFF78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D8AD-ABEE-4E3B-BE9E-E52426B622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BB6-47BE-4BEE-A766-6152510C3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7A25-0952-43F1-9453-977A522D31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E56A-28CB-4A62-A4AE-15B78606A2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A7A-685F-425F-A077-1BFDF781AB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CC14-3351-4838-8994-4AC4ED1020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E50A-1D3F-4BED-B7AA-DC17864FE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912B-BBB4-4AA1-B13F-803DB0860E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2956-D5DC-4C14-ADE3-615AB1913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3967-68B5-4EAA-BE4E-D1CD1B8403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64A7-AAE9-4117-8397-CF3E07BF89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7B43-2830-4DD6-BE77-2B4F99245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55A4-8915-4193-8B6B-F1692C6FF5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E011-D8C5-4F93-BEFD-109F5A16F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4E89-CA74-4CAE-9C28-D871B559A9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A23-C863-49FD-A308-50D25F97BC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1C6C-F987-499C-93FE-201722DF8B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2B21-62D8-4A2C-8BD9-BE69D57AC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12EF-FDE6-4E70-A645-5551C85DDC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B1C4-FA59-4730-B9E6-13315BA55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2753-70CD-4F96-8019-C10CE66633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FB3B-B896-42BF-9F78-1E8A98ACC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318-48AD-490F-A219-F4F00EE088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C08-999A-425E-B8D6-9DEBDF9BC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82E-E4F0-4081-9A37-BFC8F3290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48CD-C15D-4FB8-BFD1-C29AAF5C0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DF68-0C5D-4701-9C0B-018C66B8C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0C4C-378D-411B-AC2A-4D9F8ADCBC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B93E-B8AD-489A-88B7-25EEDEC93D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D09B-B529-46F2-8E02-4E8184FC2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E398-8336-4C1F-9C4C-67940AD04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809800" y="2276640"/>
            <a:ext cx="3524400" cy="6476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305080" y="3336840"/>
            <a:ext cx="45338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33280" y="104760"/>
            <a:ext cx="8677440" cy="6648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140360" y="4437000"/>
            <a:ext cx="1008000" cy="3016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508720" y="4437000"/>
            <a:ext cx="576000" cy="301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372360" y="4437000"/>
            <a:ext cx="576000" cy="3016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236000" y="4437000"/>
            <a:ext cx="576000" cy="301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8101080" y="4437000"/>
            <a:ext cx="576360" cy="301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4211640" y="4869000"/>
            <a:ext cx="576360" cy="301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5580000" y="4869000"/>
            <a:ext cx="576360" cy="301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372360" y="4869000"/>
            <a:ext cx="576000" cy="301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7236000" y="4869000"/>
            <a:ext cx="576000" cy="3013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8101080" y="4869000"/>
            <a:ext cx="576360" cy="301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2843280" y="5364000"/>
            <a:ext cx="576360" cy="3016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3"/>
          <a:stretch/>
        </p:blipFill>
        <p:spPr>
          <a:xfrm>
            <a:off x="6443640" y="5354640"/>
            <a:ext cx="576360" cy="301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4"/>
          <a:stretch/>
        </p:blipFill>
        <p:spPr>
          <a:xfrm>
            <a:off x="2095560" y="5724360"/>
            <a:ext cx="576360" cy="301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5"/>
          <a:stretch/>
        </p:blipFill>
        <p:spPr>
          <a:xfrm>
            <a:off x="4788000" y="5724360"/>
            <a:ext cx="576000" cy="3016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6"/>
          <a:stretch/>
        </p:blipFill>
        <p:spPr>
          <a:xfrm>
            <a:off x="3276720" y="6093000"/>
            <a:ext cx="576000" cy="301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7"/>
          <a:stretch/>
        </p:blipFill>
        <p:spPr>
          <a:xfrm>
            <a:off x="5608800" y="6453360"/>
            <a:ext cx="576000" cy="3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9410" descr=""/>
          <p:cNvPicPr/>
          <p:nvPr/>
        </p:nvPicPr>
        <p:blipFill>
          <a:blip r:embed="rId1"/>
          <a:stretch/>
        </p:blipFill>
        <p:spPr>
          <a:xfrm>
            <a:off x="114480" y="1104840"/>
            <a:ext cx="8915400" cy="4648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8244000" y="417816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8317080" y="458136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8317080" y="49514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8317080" y="531972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21:0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